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6E3-E9EF-432E-9AD4-4CBE210D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804-CB99-4CD2-AB86-FC19861D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DE8-F429-43C7-BCFD-CA13BF72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6E81-8974-4632-A4F7-E60BCFAC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899-75B5-4693-A6B7-037B1268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F6C-99CC-484C-A9F4-91F717AD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ED88-406A-4A3B-A063-97869E69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AD4-AF5A-4B4B-987F-C0364786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34E-605E-4577-9DD0-B3E5B6A5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839-4ADE-49FF-A23E-9327DC00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D2C-74C5-41E9-9D84-AE4F6FF4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5C95-BFA2-412B-8BC6-D3861943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681C-5B21-4795-9F19-03F76F567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 Makeup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is the _____ weather for a  region over a long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ngle of _____ is the angle at which sunlight or radiation strikes the ea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angle direct (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9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 Black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radiation strikes at the equator creating _______climates and low angle indirect radiation is more _____ out near the poles creating ____ clim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rts are located a ____ degrees north and south latitude and Rainforest are located at ____ degrees lat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34320" y="3124080"/>
            <a:ext cx="198108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swer Ba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qu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Temperate zo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733920" cy="2738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1920" y="2819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limate at the top of the mountain in Figure 1 is _____and ______ than at the bott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)   The climate on the (A) windward side of the mountain in Figure 1 is 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)   The climate on the (B) leeward side of the mountain in Figure 1 is _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5791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n) _______ is a land feature often found on the  leeward (B) side of the mountain in Figure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Figure 1, the side of the mountain facing the wind, air rises, _______, and drops mois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5410080"/>
            <a:ext cx="297180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nswer Ban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y               Cools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der and w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ert           w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4724280"/>
            <a:ext cx="121896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ig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4876920"/>
            <a:ext cx="380880" cy="533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4876920"/>
            <a:ext cx="380880" cy="533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H="1" flipV="1">
            <a:off x="7848360" y="0"/>
            <a:ext cx="609480" cy="190512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1828800"/>
            <a:ext cx="2666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Fig.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95280"/>
            <a:ext cx="6400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eason is occurring in the northern hemisp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igure above, what hemisphere is receiving less l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lived near the equator, the sun would shine directly 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 seasons are caused by earth’s ____ on it’s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is summer in the northern hemisphere then it is _____ in the south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259092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2743200"/>
            <a:ext cx="2209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swer Ban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.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1447920"/>
            <a:ext cx="7086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f there were no greenhouse effect, Earth's surface would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rth's atmosphere is warmed by the greenhouse effect because he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ted from Earth's 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_____ by gases in the atmosp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ich gas would increase average global tempera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Just a 2 degree rise in the average global temperatures can lead to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hen gas, oil, and coal are burned, _____ is released into the atmosp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590920"/>
            <a:ext cx="1828800" cy="3200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ing sea lev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severe 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use twice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d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6 carbon dioxide molecules"/>
          <p:cNvPicPr/>
          <p:nvPr/>
        </p:nvPicPr>
        <p:blipFill>
          <a:blip r:embed="rId1"/>
          <a:stretch/>
        </p:blipFill>
        <p:spPr>
          <a:xfrm>
            <a:off x="7620120" y="3276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886200" y="-914400"/>
            <a:ext cx="3505320" cy="3500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-685800"/>
            <a:ext cx="3962520" cy="3276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mate is the _____weather for a region over a period of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mate measure _______ and precipit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factor best influences the climat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San Francisc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. What factor best influences the climat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Iquitos Peru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.  Given rainfall, what type of climate do you think Iquitos peru is???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"/>
            <a:ext cx="1905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an Franc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2666880"/>
            <a:ext cx="1981080" cy="403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ocated b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e oce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d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pics n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q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152280"/>
            <a:ext cx="1905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qui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02440" y="709560"/>
            <a:ext cx="14320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21:00:07Z</dcterms:created>
  <dc:creator>jfuller</dc:creator>
  <dc:description/>
  <dc:language>en-US</dc:language>
  <cp:lastModifiedBy>jfuller</cp:lastModifiedBy>
  <dcterms:modified xsi:type="dcterms:W3CDTF">2011-12-08T21:02:10Z</dcterms:modified>
  <cp:revision>2</cp:revision>
  <dc:subject/>
  <dc:title>Slide 1</dc:title>
</cp:coreProperties>
</file>